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4AF7FD-F36E-4F71-98B9-F36AC5D58D0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70A596-06E9-4F10-B77D-4453F39719B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141464-0DB4-42FA-B2C9-C89659F3020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C713B6-21B9-4D8A-837A-B807EF5698B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D76D1D-3453-4AF3-89F3-FFFF81733D4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0DCB46-D19E-4B15-BAC0-24BC5C6CBF3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583F0E-A63A-4FAC-BCDC-DDDCB778A09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F1F1D4-2923-449B-9BBD-96CE2C709CE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3CC955-5960-4EE3-84A2-690399E9ADE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2FFD8-468A-4CB8-A891-9211AB51A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86F98-6462-4350-948B-7504AF8D544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34E4D-DC61-4D45-B5A6-DD9E13680EC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FC911-7F3E-4F59-9309-606693A8C61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1F6D2-EB6B-4D24-AED8-205B88B9F36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49389-E0B8-4ADE-8F46-7977081A13B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67A61-78E6-4DD0-9AA0-0F77401C02D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95063-FC9F-4A44-AA19-5926307D3A9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2713E-DC54-49D9-9E60-B91EFBEA8C7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9D61E-9366-4F07-B926-F617706FF38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4CE91-6761-423E-B423-E94846A9E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188B5-66F8-4555-A712-BF097CD07B9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AE316C-69F7-4204-AC22-4380BA456B4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296B8A-9BBC-4046-8EE9-6E4BAC32276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90C921-C82B-47F5-9D68-B5D0BC3C01F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899D16-8F53-436A-A334-68AC6B1D0C1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173118-C7CA-4389-9321-B62578E9417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A7DAFE-866C-475A-A046-02FF5098B7C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16703C-4CD5-4439-A146-E64A71D6B27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E1C289-722B-415E-9F8E-E0847277DD4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4E163E-6D04-4361-A337-DDAE171A6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58F2D-1FA5-47F3-84C9-BADA56D0529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6DA33A-220D-4B55-9150-FB812BBEDC1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BB9AC9-B573-4222-B094-957317A7BDC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C897B4-2AE8-423D-9278-D7871697E4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B0F24-6DA6-44DC-865F-6168F5CE27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924AA-6450-4E4C-AAC1-55CC96B307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7D5C1-300B-42FD-B101-B9FD046F05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9AECB-BAE0-4FAF-A52D-C8F12B1FFA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319F2-1D7E-4733-87B0-AB9D17A6FD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393D7-47CF-466A-970C-C99B9D5A3D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15D73-7B22-4125-84CE-0D0293D820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97728-7464-46AC-8B48-070645830E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DA78F-F242-4B7B-99E2-D4D1F0E99A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A779A-4016-42E3-A39F-3475C89268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A0300-3913-4EA2-A5A0-922BFF0790E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15038-097B-4D7B-B8EA-9128AA9642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41639-6240-4B43-BE83-611680FB2AF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619EA-1FA8-4A7E-8CC9-325699B021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8A421-B1FB-4446-8F25-478B964C3B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9EEF4-1A0F-4722-9519-C003FB4656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109DE-7342-416D-912F-4335AEF460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419D0-FA99-4AAC-9D97-00E915566D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F7D00-BC1C-4B1A-8E02-8D3F37C476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86E0A-58AE-46DE-8879-5E6FD9656C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E72FF-16C2-4777-AF62-AE220B9C91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0E821-FAD0-4BD2-9D20-B248ACA94F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48AA2-139E-4BF6-AE3E-4C2B219F7F1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397A-8F6C-4F76-AB8B-54D2AA5AD05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FD65-D94A-4EFE-8D44-3C04390AAD0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1180-8049-4F3A-AEE6-C55EB2B3E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D474-6B2B-4A1D-88B1-E9B720220F0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35C1-8B1D-41BC-BFD5-7A74328BC2D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FAE3-C3B8-429C-B0F2-80DB837996D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580D-FBBC-4714-A1F2-C1440B85CCC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3202-8A8E-43DD-95BF-90C72D96BB6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F4B4-5279-40C6-ADAF-340F5EC8E68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71D7-FBF7-4704-8481-8D212ACB605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A1F0-38D7-42D2-86B3-4F396597046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A8ED-4BC3-43BA-A20F-C57E24DF95D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8DF89-E346-4DCC-9131-70FA18CD8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81EBF0-FF06-452C-9142-63A5F066596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82118-410A-4179-9057-72483CFFB5B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177489-AC01-4A0D-A1E7-08E25DCF8A2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448A5-AE24-44B3-BABD-F7F7EE1B675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95A959-333D-4F47-BCF7-C0BF76E211D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39AC6-2504-4003-91CC-131AB4EB55E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41C8E-DB89-4234-86DC-464FF6DB1EF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018270-A14C-44A9-9160-15A435DFD0D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4BEF4D-C431-4E5B-AEF5-54E0B742134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2624D-0C0E-4571-A669-194DAC3A82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42901-F6EE-4CB0-AA64-CC215D62A2F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514AA1-5724-4E10-9882-15252BC6B5A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1AA010-A2AF-419F-AF32-8DB0DE33285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1B90D4-34FE-455F-8384-E387F5FBFF6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5A1C84-D74F-4594-BCD1-4AD4306DDC6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0DFE0A-31BF-430D-999B-50B5DE50452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774AD5-B82D-414A-A121-E85329DAF49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905B00-FA55-4E0A-9AAD-E082DC536F6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4B6777-6A4E-4DDC-9F85-6D7968F0A30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085FAE-B1B3-4D60-B488-47ADF899F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AE9B70-D689-41E9-B7BD-D44A007060C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2716A8-E78D-4B69-8874-E6EECAA3782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AA1F21-0E39-430C-8861-4E0D2C36A03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1FEB8-AC0D-4C27-9D76-83F2A9CFAB6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7D70B-613A-41C1-A040-3B7117FB55B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D7D34-3874-46FA-8B41-0FAEA0CF834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E8CEC-1C49-499B-A4E2-3E60BCAD62F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0E83F-F081-444A-8994-7245640E8CE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83ED2-3CB2-4BA9-944D-435371063F2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27D4C-22DD-48E6-8DDA-DF3000D9F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70B44-2B0E-4711-A8F2-62DFF574430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CE7E6-1A19-479E-ABDE-69E4F039B86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7B362-D67D-4A14-9B32-B28BFB890FD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96D53-3137-4FCB-8466-77E20B81458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E579E-87FF-44AA-9945-432CD67A395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F5963B-82FE-41E3-9115-BAC8DEDA017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AADA3B-25A3-4BAA-AE5A-B82C6AAD12F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5C06C3-7FDC-4FDD-9DE7-2A3D6CEDE2A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302E05-047E-4A42-88EF-263132F7333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AC30FB-74AD-44A6-BA10-4DD998FB0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D883BC-4BF0-48DF-9CAB-9C6C5C67862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BCF09C-C6E8-4F11-9983-1CEBA4AC8DD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2AECF7-4C75-4A35-97C4-8760990D9BA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F88975-FD78-42EF-9D47-327A5B784D3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62E258-E09C-4ECF-9779-5E787F439DD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488537-ADD8-4835-A7E1-A245D44DD36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6ADABD-0C05-4DAA-861C-DFE39030991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81D279-B6FC-4C4D-8877-181AD6E9F30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E0E723-841D-4D62-8316-193A8ECB7A2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CC5105-AD53-43BE-AAE6-6EE301D0D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6B64-575F-4CE1-AC4F-57A9D97B700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69D1-08E3-456E-917B-D3203DA81248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9E3E-12D7-46E6-82EE-EBFAD32E1AE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5A58-7AF8-4903-AFB6-0D864947313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06B5-49E9-4657-8660-37FF32F7C03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395B-E0EA-4E10-A35E-8E172C0D639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99F2-D861-4003-99E3-5145C37DDE1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B511-3161-41E1-B54F-660F0CEAEFE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A9EC-9EA1-4B45-A57A-0ADD73D4C68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05C2-79D6-46BD-A1E6-29D0758A17E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539640" y="1341360"/>
            <a:ext cx="821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rso: </a:t>
            </a:r>
            <a:r>
              <a:rPr b="1" lang="it-IT" sz="1800" spc="-1" strike="noStrike">
                <a:solidFill>
                  <a:srgbClr val="ff3300"/>
                </a:solidFill>
                <a:latin typeface="Verdana"/>
              </a:rPr>
              <a:t>Design degli eventi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ocente: Prof. Luca Foi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dLM a cui è offerto: tutti i CdLM (no D&amp;E)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mestre: 2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ingua di erogazione: italiano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° max studenti ammessi: 90 Polimi + 20 Erasmu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odalità d’esame per non frequentanti: SI/NO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1117800" y="158760"/>
            <a:ext cx="67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Laurea Magistrale - 2°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539640" y="3860640"/>
            <a:ext cx="8280360" cy="37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Verdana"/>
              </a:rPr>
              <a:t>Il corso, giunto alla sua ottava edizione, vuole fornire le competenze metodologiche, creative e progettuali per affrontare l’organizzazione dell’Evento, inteso come:</a:t>
            </a:r>
            <a:br>
              <a:rPr sz="1400"/>
            </a:br>
            <a:r>
              <a:rPr b="1" lang="it-IT" sz="1400" spc="-1" strike="noStrike">
                <a:solidFill>
                  <a:srgbClr val="404040"/>
                </a:solidFill>
                <a:latin typeface="Verdana"/>
              </a:rPr>
              <a:t>“una serie di azioni complesse, pensate e progettate per comunicare, in forme e modi diversi, qualcosa a qualcuno”.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Verdana"/>
              </a:rPr>
              <a:t> 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Verdana"/>
              </a:rPr>
              <a:t>Il corso si sviluppa seguendo i reali e indispensabili passaggi del ciclo completo di un evento: </a:t>
            </a:r>
            <a:r>
              <a:rPr b="1" lang="it-IT" sz="1400" spc="-1" strike="noStrike">
                <a:solidFill>
                  <a:srgbClr val="404040"/>
                </a:solidFill>
                <a:latin typeface="Verdana"/>
              </a:rPr>
              <a:t>brief, concept, progetto, budget, comunicazione, produzione, feedback.</a:t>
            </a:r>
            <a:r>
              <a:rPr b="0" lang="it-IT" sz="14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3"/>
          <p:cNvSpPr/>
          <p:nvPr/>
        </p:nvSpPr>
        <p:spPr>
          <a:xfrm>
            <a:off x="1129680" y="158760"/>
            <a:ext cx="67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Corsi a scelta Laurea Magistrale - 2°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539640" y="2793960"/>
            <a:ext cx="8280360" cy="50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040"/>
                </a:solidFill>
                <a:latin typeface="Verdana"/>
              </a:rPr>
              <a:t>Il metodo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040"/>
                </a:solidFill>
                <a:latin typeface="Verdana"/>
              </a:rPr>
              <a:t>Analisi</a:t>
            </a:r>
            <a:r>
              <a:rPr b="0" lang="it-IT" sz="1400" spc="-1" strike="noStrike">
                <a:solidFill>
                  <a:srgbClr val="404040"/>
                </a:solidFill>
                <a:latin typeface="Verdana"/>
              </a:rPr>
              <a:t> delle diverse fasi del ciclo dell’evento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Verdana"/>
              </a:rPr>
              <a:t>Utilizzo di </a:t>
            </a:r>
            <a:r>
              <a:rPr b="1" lang="it-IT" sz="1400" spc="-1" strike="noStrike">
                <a:solidFill>
                  <a:srgbClr val="404040"/>
                </a:solidFill>
                <a:latin typeface="Verdana"/>
              </a:rPr>
              <a:t>linguaggi</a:t>
            </a:r>
            <a:r>
              <a:rPr b="0" lang="it-IT" sz="1400" spc="-1" strike="noStrike">
                <a:solidFill>
                  <a:srgbClr val="404040"/>
                </a:solidFill>
                <a:latin typeface="Verdana"/>
              </a:rPr>
              <a:t> trasversali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040"/>
                </a:solidFill>
                <a:latin typeface="Verdana"/>
              </a:rPr>
              <a:t>Contributi esterni </a:t>
            </a:r>
            <a:r>
              <a:rPr b="0" lang="it-IT" sz="1400" spc="-1" strike="noStrike">
                <a:solidFill>
                  <a:srgbClr val="404040"/>
                </a:solidFill>
                <a:latin typeface="Verdana"/>
              </a:rPr>
              <a:t>come confronto con la realtà professionale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040"/>
                </a:solidFill>
                <a:latin typeface="Verdana"/>
              </a:rPr>
              <a:t>Le esercitazioni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Verdana"/>
              </a:rPr>
              <a:t>Mappatura degli eventi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Verdana"/>
              </a:rPr>
              <a:t>Awards: Salone del Mobile e Fuorisalone 2015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040"/>
                </a:solidFill>
                <a:latin typeface="Verdana"/>
                <a:ea typeface="Verdana"/>
              </a:rPr>
              <a:t>Il progetto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Verdana"/>
                <a:ea typeface="Verdana"/>
              </a:rPr>
              <a:t>Coinvolgimento di un’azienda con brief reale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8" name="Immagine 2" descr="Schermata 2014-07-29 alle 13.58.54.png"/>
          <p:cNvPicPr/>
          <p:nvPr/>
        </p:nvPicPr>
        <p:blipFill>
          <a:blip r:embed="rId1"/>
          <a:stretch/>
        </p:blipFill>
        <p:spPr>
          <a:xfrm>
            <a:off x="0" y="1158840"/>
            <a:ext cx="914400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3:48:10Z</dcterms:created>
  <dc:creator>Silvia</dc:creator>
  <dc:description/>
  <dc:language>en-US</dc:language>
  <cp:lastModifiedBy>Utente di Microsoft Office</cp:lastModifiedBy>
  <cp:lastPrinted>2003-05-08T11:08:41Z</cp:lastPrinted>
  <dcterms:modified xsi:type="dcterms:W3CDTF">2014-07-29T12:01:52Z</dcterms:modified>
  <cp:revision>216</cp:revision>
  <dc:subject/>
  <dc:title>Inserire immagine della locandina, possibilmente in trasparenza e aggiungere Facoltà di Architettura Illustrazione prova di ammissione prof. Silvia Piardi (idem Cedolin)</dc:title>
</cp:coreProperties>
</file>